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C26-17E4-4092-A072-A0D149F0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627-D1D2-4543-888E-ACB21731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FDB-7A41-4F9F-B293-852908C9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E8D-F9CA-4866-B2AC-A7AA40FF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0B5-0DD6-4A97-A331-6A0AB492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B88-A0E1-44B1-9BC4-33CD625D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863-5167-4616-9409-9735E214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319-1633-4221-8750-E54DC221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B24-485E-414C-914E-8A20E642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B2A-7B63-43EA-8682-A8D125E7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60E-85B6-4EF5-BD9C-4C051DD1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53B-FF71-4375-A2CB-76650434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11A9-9DD3-4F85-9E4B-6F2FF5019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slide3.xml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c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49944"/>
              <a:gd name="adj2" fmla="val 2006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ech and Debate, Fore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guage, Chess, Year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Future Busi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ders of 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a few examp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clubs/activ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44"/>
              <a:gd name="adj2" fmla="val 2118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how many cred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need to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on average) each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44"/>
              <a:gd name="adj2" fmla="val 1950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social studies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should t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r sophomore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US Hist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50101"/>
              <a:gd name="adj2" fmla="val 17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are the courses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ake a total of 90 cred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o gradu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Elect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44"/>
              <a:gd name="adj2" fmla="val 197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roup elected fro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tudent body to se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representatives to hel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vern the scho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tudent council/gover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44"/>
              <a:gd name="adj2" fmla="val 1895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dits you ea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you earn an F in a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z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50101"/>
              <a:gd name="adj2" fmla="val 197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the English or Languag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you should tak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r freshman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ntroduction to Literature and Composi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50101"/>
              <a:gd name="adj2" fmla="val 18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requir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CTE (Career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ical Education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lfi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ine Ar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50101"/>
              <a:gd name="adj2" fmla="val 2090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mecoming and P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examp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d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371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4479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666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666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51055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51055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8862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51055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228600"/>
            <a:ext cx="160020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-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6781680" y="380880"/>
            <a:ext cx="20574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TING INV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371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9625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8862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9625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666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51814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666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371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1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609480" y="15238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50101"/>
              <a:gd name="adj2" fmla="val 1950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is how many 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need to graduat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50101"/>
              <a:gd name="adj2" fmla="val 2173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n elective that ROT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lfi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E or Physical Edu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787"/>
              <a:gd name="adj2" fmla="val 203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are the su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need to take and pa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0 credits of to gradu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Language Arts and Math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44"/>
              <a:gd name="adj2" fmla="val 1700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otball, basketball, volleybal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nnis, wrestling and swim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a few examp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DPS athleti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50101"/>
              <a:gd name="adj2" fmla="val 1867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how many cred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one-semester class is wor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49944"/>
              <a:gd name="adj2" fmla="val 197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math cla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freshman t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lgebra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787"/>
              <a:gd name="adj2" fmla="val 18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are the su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need to take and p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 credits of to gradu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Science and Social Stu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ori Canty</cp:lastModifiedBy>
  <cp:lastPrinted>2001-01-31T16:21:13Z</cp:lastPrinted>
  <dcterms:modified xsi:type="dcterms:W3CDTF">2010-07-20T17:45:04Z</dcterms:modified>
  <cp:revision>93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